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D4E-D6C5-4DCF-B707-AF5C450C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EF2-1FEC-4B45-8828-D7D5A5E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FBC-A45A-49F2-8B08-A8D70AF9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612-D7E3-4D24-A232-6E673C85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8C2-153D-41EE-AC16-42AE16C7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B92-0484-4C46-9841-1BC1F575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84B-381C-4487-A1F7-C020AA12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B89-242E-4B4B-B112-F5503408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C1B-244B-4CEC-8487-5500BCF7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8D7-5D07-4C26-A040-941B6CE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51C-AE66-4811-BFA4-EEA17E9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ABA-9AD9-4F24-80C8-1634B1C8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7C6A-8C42-46D8-A461-5EBCD97B1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7 Tak ďaleko som zblúd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 istotou sa spolieh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jeho láske spás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ďaleko som zblú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Boha v hriechu stále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mnoho rokov strádal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nechcem už byť cudzinc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život dosiaľ prázdny b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áruč Otca tíši bô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čistí ma, obmy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nové rúcho dar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9:26:24Z</dcterms:modified>
  <cp:revision>20</cp:revision>
  <dc:subject/>
  <dc:title>Je veľký náš Pán, on slávy je Kráľ Nech do všetkých strán  spev vrúcnych znie chvál.</dc:title>
</cp:coreProperties>
</file>